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346-8B1B-49CF-AF71-0D1D9B3F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1D0-5EA7-4C69-BD73-5235D839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806-6E63-4F9A-B325-12936881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1BA-3074-4659-8A45-F308D89F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8A69-70D9-4F0B-9BCD-F0A9C89F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D6C6-3632-43FE-934C-A02EFD6D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8034-6526-4C13-9C13-FCA1638D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0E3C-EDD2-4BAB-B8C9-7D6A6257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AB57-B59A-4E5B-966D-0E0F3861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D44-3F05-4EC4-931D-6C85D5B6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1F12-49AE-4CE0-B3E1-D33BDCC1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907-6387-4DBE-93BD-47C629D8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6D6B-F861-4586-B048-AD3A3683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FFD4-CD4A-4C64-AEE6-3E21F93C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0E30-A62A-47A3-919E-3D23DF84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247B-1819-4F5B-952A-36EC1BD1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992A-3E6A-49A0-B11E-15615B18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22F-DCCF-448E-B6AD-F4B86770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3E1-FE3D-45A1-9E3B-734E2090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F10-C95F-4095-A94D-D156F536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6BF-10B4-4D73-8C11-22817352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767-2C51-406F-90F8-551CBBD4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3AA-FBDB-44F9-8C28-58459950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0CB-ACF9-4E7B-8F29-F9B4A9FD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22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22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821713-6AE8-4000-A23C-B8FA816C9E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8872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445EA-8FF2-4C61-9853-FAADC6640B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: Creating Reusable Software Components for Genome Dat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– GMOD Schema</a:t>
            </a:r>
            <a:br>
              <a:rPr sz="4400"/>
            </a:b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avid Emmert, Chris Mungall</a:t>
            </a:r>
            <a:endParaRPr b="0" lang="en-US" sz="32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360" y="1728720"/>
            <a:ext cx="896328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nofuncs.diagram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27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Sche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526400" y="5638680"/>
            <a:ext cx="5398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created by SQL::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Chado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26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stgreSQL (Powerful OS RDM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o-perl (Gene Ontology consortium’s perl tool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ptional: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XORT, a perl tool for loading and dumping XML files to/from a databas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dWare, a BioPerl-compatible API built on Class::DB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 you need Chado?</a:t>
            </a:r>
            <a:br>
              <a:rPr sz="4400"/>
            </a:b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  It depends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the medium of interoperation for many GMOD applic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hado is very good at capturing complex biological data, but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a data warehouse, and so can be a little slow to query, so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f you have only features on sequences, you probably want something else (but I’ve got that too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8978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tandard Browsers &amp; Editors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Browse – Web-based genome annotation viewing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Lincoln Stein, Scott Cain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pollo – Desktop-based genome annotation edit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Nomi Harris, Berkeley; Michelle Clamp, Broad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Map – Web-based comparative map view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Ken Clark, Ben Faga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MODWeb – “Skin-able” Chado-based web site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Allen Day, Brian O’Connor, UCLA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Textpresso – An ontology driven literature search tool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Hans-Michael Mueller, CalTech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Browse—the Generic Genome Browser (L. Stein, S. Cain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09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platform, CGI-based sequence feature browser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upports multiple database backends (flat files; Bio::DB::GFF,SeqFeature; Chado; BioSQL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ighly configurable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r annotations and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lugin architecture for importers, dumpers and drawer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Lots of glyphs to choose from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59" name="gbrowse-image-glyph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96040" cy="2590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195640" y="4267080"/>
            <a:ext cx="39816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 create your ow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70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 moving to web 2.0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2" name="GBrowse-watson-popup-balloon-cropped" descr=""/>
          <p:cNvPicPr/>
          <p:nvPr/>
        </p:nvPicPr>
        <p:blipFill>
          <a:blip r:embed="rId1"/>
          <a:stretch/>
        </p:blipFill>
        <p:spPr>
          <a:xfrm>
            <a:off x="0" y="1238400"/>
            <a:ext cx="7496280" cy="5619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53080" y="5181480"/>
            <a:ext cx="4394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jimwatsonsequence.cshl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 synteny browser in 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5" name="synview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7105680" cy="3162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54320" y="5327640"/>
            <a:ext cx="6002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www.plasmodb.org, now distribut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rowse in the ‘contrib’ direc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GBrowse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bg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ome place to put your dat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ta: GFF2 or GFF3, or GenBank records, or something loaded in to Chado or BioSQL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del Organism Databas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575480" cy="39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mmunity-driven compilations of knowledge about one or more model organism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enotype/phenotype correlation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volutionary relationshi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hared resourc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enome annotation, stock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ther key dataset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ing GBrowse is easy (no, really!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perl (only if on Window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libgd (only if on a Unix-lik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gbrowse-netinstall.pl from www.gmod.org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un (sudo) perl gbrowse-netinstall.p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e http://www.gmod.org/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GBrowse is not too har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ample data installed so browsing can start right awa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tutorial is included to cover many aspects of track configuration, including writing perl callbacks to do very sophisticated stuff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very active user mailing list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 (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Nomi Harris, Michelle Clamp, Mark Gibson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wnloadable Java application for editing genome annotation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orks with GAME-XML, Chado, Chado-xml, GFF, GenBan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fruitfly.org/annot/apollo for a double-click installer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76" name="apollo-screenshot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 (Ken Clark, Ben Faga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ative map viewer for physical, genetic and sequence ma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b b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veloping an application to use as an assembly editor (CMA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quires Apache, an RDMS, and many perl modules (Bundle::CMap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832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0" name="cmap-screenshot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MODWeb—A mod-perl, template driven window into Chado (Allen Day, Brian O’Connor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3124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ilt on Turnkey (an autogenerated MVC website for any “reasonable” DB)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ses SQL::Translator to create a perl Class::DBI API for a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reates user-customizable templates for tables in the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Basic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782" t="14582" r="8593" b="9375"/>
          <a:stretch/>
        </p:blipFill>
        <p:spPr>
          <a:xfrm>
            <a:off x="380880" y="1554120"/>
            <a:ext cx="8305920" cy="522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749640" y="655308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EnsEMBL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782" t="14582" r="2344" b="7293"/>
          <a:stretch/>
        </p:blipFill>
        <p:spPr>
          <a:xfrm>
            <a:off x="304920" y="1523880"/>
            <a:ext cx="8610480" cy="5207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—a ‘Pure’ GMOD DB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1" name="parameciumdb-screenshot" descr=""/>
          <p:cNvPicPr/>
          <p:nvPr/>
        </p:nvPicPr>
        <p:blipFill>
          <a:blip r:embed="rId1"/>
          <a:stretch/>
        </p:blipFill>
        <p:spPr>
          <a:xfrm>
            <a:off x="628560" y="819000"/>
            <a:ext cx="851544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04920" y="228600"/>
            <a:ext cx="8686800" cy="6451560"/>
            <a:chOff x="304920" y="228600"/>
            <a:chExt cx="8686800" cy="64515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1354" t="18045" r="3154" b="2064"/>
            <a:stretch/>
          </p:blipFill>
          <p:spPr>
            <a:xfrm>
              <a:off x="457200" y="228600"/>
              <a:ext cx="3809880" cy="2695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1354" t="18045" r="3154" b="2064"/>
            <a:stretch/>
          </p:blipFill>
          <p:spPr>
            <a:xfrm>
              <a:off x="1752480" y="1600200"/>
              <a:ext cx="3276720" cy="231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rcRect l="1354" t="18045" r="3154" b="2064"/>
            <a:stretch/>
          </p:blipFill>
          <p:spPr>
            <a:xfrm>
              <a:off x="4876920" y="685800"/>
              <a:ext cx="3657600" cy="258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rcRect l="8560" t="18045" r="7658" b="2064"/>
            <a:stretch/>
          </p:blipFill>
          <p:spPr>
            <a:xfrm>
              <a:off x="304920" y="3809880"/>
              <a:ext cx="3429000" cy="276552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4" name="" descr=""/>
            <p:cNvPicPr/>
            <p:nvPr/>
          </p:nvPicPr>
          <p:blipFill>
            <a:blip r:embed="rId5"/>
            <a:srcRect l="1354" t="18045" r="3154" b="2064"/>
            <a:stretch/>
          </p:blipFill>
          <p:spPr>
            <a:xfrm>
              <a:off x="5257800" y="4038480"/>
              <a:ext cx="3733920" cy="2641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5" name="" descr=""/>
            <p:cNvPicPr/>
            <p:nvPr/>
          </p:nvPicPr>
          <p:blipFill>
            <a:blip r:embed="rId6"/>
            <a:srcRect l="1354" t="16978" r="3154" b="5260"/>
            <a:stretch/>
          </p:blipFill>
          <p:spPr>
            <a:xfrm>
              <a:off x="2438280" y="3352680"/>
              <a:ext cx="3962520" cy="272916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arameciumdb-genepage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496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 Gene Pag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5000" y="1066320"/>
            <a:ext cx="7726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full text searches of research papers (search scope from single sentence to full document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keyword and category searches (adds meaning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ntolog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as set of 50 categories containing 1.1 million ter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nsists of scientific part (such as GO) as well as “colloquial” on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. elegans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rpus has 7,800 papers, 22,000 abstracts, updated weekl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 marku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162560" cy="2857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219800" cy="1924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2120" y="4495680"/>
            <a:ext cx="7315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k up the whole corpus of papers with terms of categories and index mark-ups for searc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 search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520" y="990720"/>
            <a:ext cx="8206920" cy="4846680"/>
            <a:chOff x="533520" y="990720"/>
            <a:chExt cx="8206920" cy="484668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533520" y="990720"/>
              <a:ext cx="5943600" cy="484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"/>
            <p:cNvGrpSpPr/>
            <p:nvPr/>
          </p:nvGrpSpPr>
          <p:grpSpPr>
            <a:xfrm>
              <a:off x="1904760" y="4876920"/>
              <a:ext cx="4021200" cy="398880"/>
              <a:chOff x="1904760" y="4876920"/>
              <a:chExt cx="4021200" cy="39888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1904760" y="5094360"/>
                <a:ext cx="762120" cy="152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00800" y="4876920"/>
                <a:ext cx="312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ase sensitive search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276720" y="3505320"/>
              <a:ext cx="54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(will including bracketing in near futur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067040" y="3048120"/>
              <a:ext cx="7673400" cy="685800"/>
              <a:chOff x="1067040" y="3048120"/>
              <a:chExt cx="7673400" cy="68580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3048120"/>
                <a:ext cx="546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Boolean operations for keyword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067040" y="3276720"/>
                <a:ext cx="38088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447560" y="3276720"/>
                <a:ext cx="3805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33720" y="3276720"/>
                <a:ext cx="7560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7920" y="3276720"/>
                <a:ext cx="1752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10040" y="3809520"/>
              <a:ext cx="5844600" cy="399240"/>
              <a:chOff x="2210040" y="3809520"/>
              <a:chExt cx="5844600" cy="39924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2210040" y="380952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210040" y="3809520"/>
                <a:ext cx="5844600" cy="399240"/>
                <a:chOff x="2210040" y="3809520"/>
                <a:chExt cx="5844600" cy="39924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3048120" y="380952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10040" y="4114800"/>
                  <a:ext cx="32000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486400" y="3809880"/>
                  <a:ext cx="2568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Phrase search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"/>
          <p:cNvSpPr/>
          <p:nvPr/>
        </p:nvSpPr>
        <p:spPr>
          <a:xfrm>
            <a:off x="0" y="5494320"/>
            <a:ext cx="739152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s you query lik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 want to learn about all genes that interact with gene x in cell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u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ts of disk space (~3GB/1000 full text paper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ull text papers in pdf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textpresso.org/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Other Compon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36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thway Tools – metabolic pathway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BioMart – data min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Ergatis – genome analysis workflow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ubSearch/PubFetch – literature managemen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ucegene – keyword search of genome annot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Sybil – synteny viewer for Chado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Packag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01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PM-based installs: </a:t>
            </a:r>
            <a:r>
              <a:rPr b="0" i="1" lang="en-GB" sz="3200" spc="-1" strike="noStrike">
                <a:solidFill>
                  <a:srgbClr val="0000ff"/>
                </a:solidFill>
                <a:latin typeface="Comic Sans MS"/>
              </a:rPr>
              <a:t>biopackages.net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(Fedora and CentO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Virtual machines with software (new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ource-based “make install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xamples &amp; tutorial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Help des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ailing li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angible Benef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 community-supported platform on which to build genome-scale databas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New generation of semantically interoperable MODs (DAS2)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rameciumDB, BeetleBase, BeeBase, VectorBase, BovineBase, GallusDB, AphidBase, Xanthusbase,ToxoDB, GiardiaDB, LIS, KISS, T1Db, T2Db, CNV Browser, SwissRegulon.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re Inform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57200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redits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coln Stein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en Clar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Allen D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aren Eilbec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avid Emmer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en Fag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da Sperl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Olivier Arnaiz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3076560"/>
            <a:ext cx="339228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Nomi Har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Mark Gib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ima Mish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rian O’Con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ric J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on Gilb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Peter Ka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0880" y="1143000"/>
            <a:ext cx="7913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ww.gmod.org fo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ownloads, documentation, mailing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91800" y="6348240"/>
            <a:ext cx="26953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nd many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ree Views of a Gen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640800" y="14940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orm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530" t="15719" r="13295" b="43951"/>
          <a:stretch/>
        </p:blipFill>
        <p:spPr>
          <a:xfrm>
            <a:off x="838080" y="2057400"/>
            <a:ext cx="6248520" cy="106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23226" t="34597" r="1932" b="39459"/>
          <a:stretch/>
        </p:blipFill>
        <p:spPr>
          <a:xfrm>
            <a:off x="838080" y="3505320"/>
            <a:ext cx="441972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61840" y="32004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2120" y="5362560"/>
            <a:ext cx="4762440" cy="42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84080" y="4981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G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12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tandardized solutions for model organism databas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ultiple MODs invol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riginal participants: Worm, fly, yeast, mouse, arabidopsis, rat, rice, E. col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unded by NIH, USDA/ARS, NF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rogrammers, coordinator, help desk, workshop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875960" y="5729400"/>
            <a:ext cx="64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Bradley Hand ITC"/>
              </a:rPr>
              <a:t>http://www.gmod.or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5881680"/>
            <a:ext cx="1524240" cy="536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06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Components of GMO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4952880"/>
            <a:ext cx="3503880" cy="1617840"/>
            <a:chOff x="152280" y="4952880"/>
            <a:chExt cx="3503880" cy="1617840"/>
          </a:xfrm>
        </p:grpSpPr>
        <p:sp>
          <p:nvSpPr>
            <p:cNvPr id="109" name=""/>
            <p:cNvSpPr/>
            <p:nvPr/>
          </p:nvSpPr>
          <p:spPr>
            <a:xfrm>
              <a:off x="152280" y="5181120"/>
              <a:ext cx="160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eb 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rcRect l="721" t="11581" r="4426" b="3897"/>
            <a:stretch/>
          </p:blipFill>
          <p:spPr>
            <a:xfrm>
              <a:off x="1904400" y="4952880"/>
              <a:ext cx="1751760" cy="161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77400" y="3352680"/>
            <a:ext cx="3197160" cy="1274760"/>
            <a:chOff x="77400" y="3352680"/>
            <a:chExt cx="3197160" cy="1274760"/>
          </a:xfrm>
        </p:grpSpPr>
        <p:sp>
          <p:nvSpPr>
            <p:cNvPr id="112" name=""/>
            <p:cNvSpPr/>
            <p:nvPr/>
          </p:nvSpPr>
          <p:spPr>
            <a:xfrm>
              <a:off x="77400" y="338436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ile forma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4560" y="3352680"/>
              <a:ext cx="990000" cy="1274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86920" y="4222800"/>
            <a:ext cx="4204800" cy="1191240"/>
            <a:chOff x="4786920" y="4222800"/>
            <a:chExt cx="4204800" cy="1191240"/>
          </a:xfrm>
        </p:grpSpPr>
        <p:sp>
          <p:nvSpPr>
            <p:cNvPr id="115" name=""/>
            <p:cNvSpPr/>
            <p:nvPr/>
          </p:nvSpPr>
          <p:spPr>
            <a:xfrm>
              <a:off x="4786920" y="4222800"/>
              <a:ext cx="1811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owsers &amp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di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rcRect l="905" t="28856" r="29572" b="13655"/>
            <a:stretch/>
          </p:blipFill>
          <p:spPr>
            <a:xfrm>
              <a:off x="7010280" y="4222800"/>
              <a:ext cx="198144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87840" y="1828800"/>
            <a:ext cx="4548960" cy="1162080"/>
            <a:chOff x="87840" y="1828800"/>
            <a:chExt cx="4548960" cy="1162080"/>
          </a:xfrm>
        </p:grpSpPr>
        <p:sp>
          <p:nvSpPr>
            <p:cNvPr id="118" name=""/>
            <p:cNvSpPr/>
            <p:nvPr/>
          </p:nvSpPr>
          <p:spPr>
            <a:xfrm>
              <a:off x="87840" y="2057040"/>
              <a:ext cx="169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ntolog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rcRect l="0" t="0" r="33729" b="0"/>
            <a:stretch/>
          </p:blipFill>
          <p:spPr>
            <a:xfrm>
              <a:off x="2361600" y="1828800"/>
              <a:ext cx="2275200" cy="11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4812840" y="2470320"/>
            <a:ext cx="4178880" cy="1333440"/>
            <a:chOff x="4812840" y="2470320"/>
            <a:chExt cx="4178880" cy="1333440"/>
          </a:xfrm>
        </p:grpSpPr>
        <p:pic>
          <p:nvPicPr>
            <p:cNvPr id="121" name="sequence.diagram" descr=""/>
            <p:cNvPicPr/>
            <p:nvPr/>
          </p:nvPicPr>
          <p:blipFill>
            <a:blip r:embed="rId4"/>
            <a:stretch/>
          </p:blipFill>
          <p:spPr>
            <a:xfrm>
              <a:off x="6451560" y="2470320"/>
              <a:ext cx="254016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12840" y="2698560"/>
              <a:ext cx="1489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612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equence Ontology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Karen Eilbeck (U. Utah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638360"/>
            <a:ext cx="853416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31680" y="652608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Slide from Karen Eilbe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53244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GMOD Schema: Chado 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David Emmert (FlyBase), Chris Mungall (Berkeley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odular and ontology-driven for flexibility and extensibilit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25920"/>
            <a:ext cx="5333760" cy="228600"/>
          </a:xfrm>
          <a:prstGeom prst="rightArrow">
            <a:avLst>
              <a:gd name="adj1" fmla="val 50000"/>
              <a:gd name="adj2" fmla="val 195840"/>
            </a:avLst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9840" y="37782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6550" t="13282" r="15296" b="84723"/>
          <a:stretch/>
        </p:blipFill>
        <p:spPr>
          <a:xfrm>
            <a:off x="533520" y="4495680"/>
            <a:ext cx="5518080" cy="12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2440" y="461628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R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05120" y="5213520"/>
            <a:ext cx="1752480" cy="1492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06520" y="643896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e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0" t="0" r="0" b="63040"/>
          <a:stretch/>
        </p:blipFill>
        <p:spPr>
          <a:xfrm>
            <a:off x="5334120" y="2774880"/>
            <a:ext cx="3352680" cy="80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95480" y="3886200"/>
            <a:ext cx="1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64160" y="40068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648320"/>
            <a:ext cx="180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3160" y="46926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lation_produ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8" idx="0"/>
            <a:endCxn id="134" idx="2"/>
          </p:cNvCxnSpPr>
          <p:nvPr/>
        </p:nvCxnSpPr>
        <p:spPr>
          <a:xfrm flipV="1">
            <a:off x="5866920" y="3580560"/>
            <a:ext cx="1143720" cy="1594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009480" y="38098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genomic lo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entral Dog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72520" cy="463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tt Cain</cp:lastModifiedBy>
  <dcterms:modified xsi:type="dcterms:W3CDTF">2007-07-09T13:15:33Z</dcterms:modified>
  <cp:revision>16</cp:revision>
  <dc:subject/>
  <dc:title>The GMOD Project: Creating Reusable Software Components for Genome Data</dc:title>
</cp:coreProperties>
</file>